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040-5D28-44C2-9114-9B5FCF0B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5DF-C389-4D9A-AA90-22663E4D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CDC-04D3-466D-B4FE-485B7411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A14-0697-4844-87D6-2D74C105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199-81AF-401A-84C3-35EB6F10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51CE-543D-46F3-8F02-657A6B86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ED6-F14F-40D2-9C8C-B4CB4F58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CC0-46F1-4EBA-93A3-4A36511B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A41-94F7-4CF7-910C-CB780BCA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1D7-050D-4FB0-8F49-6EBC2B43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F9F-2DFA-4B50-8DD8-A97676DC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7B2C-A106-4AE9-9A9B-F3F60515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1426-E0D1-479F-9625-4D7719E6A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he Divided Kingdom, Part 2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“Till There Was No Remedy”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uarter 7, Lesson 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Chron. 26:21; 27:1-9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Kings 15:5, 32-38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ah 1-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es 111-1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Micah’s Message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Micah 4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fore the glory of those last days, judgment must come upon the land because of the sins of the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he in agony, O daughter of Zion, like a woman in labor, for you must leave the city…you will go to Babylon” (4:1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Remember that Babylon was not yet a power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Micah’s Message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Micah 4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again, God promises a remnant will retu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, a spiritual remnant will be born through which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essia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ll c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will establish a new, strong spiritual king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Messianic Hope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(Micah 5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ruler will arise from a lowly bi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uler will be born of a virgin (Isa. 7:1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ill be born in a village –Bethlehem (5: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ill be a great ruler – “One whose origins are from of old”  (5: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Messianic Hope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(Micah 5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enemies will be defe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power will stand against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ckedness and idolatry will be cut o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ngeance will be meted 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prophecy fulfilled under Chr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Jehovah and Israel in a Controversy (Lawsuit) 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(Micah 6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ord calls upon the mountains to witness in a lawsuit against the people (v. 3-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eople answer (v. 6-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ophets speaks (v. 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speaks again (v. 9-1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he Way of Salvation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(Micah 7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ah closes by confessing the sins of the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a few, a spiritual remnant, will look to the Lord for sal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ould keep His covenant with Abraham and Jaco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5937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76920" y="3124080"/>
            <a:ext cx="10666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We’re Studying THIS Stretch of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Jotham’s Reign</a:t>
            </a:r>
            <a:br>
              <a:rPr sz="2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2 Kings 15:5, 32-38; 2 Chron. 26:21; 27:1-9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419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tham - 16 Years (Goo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gan ruling at age 2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d what was right before G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alked in the ways of Uzziah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xcept..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 did not enter illegally into the temp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mon people were still practicing idolat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inued to fortify the ci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hing evil recorded about hi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23920" y="16002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Year of Pek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Subjugation of the Ammonites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2 Chron. 27:5-6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tham conquered the Ammon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monites forced to pay Jotham 3 ¾ tons of silver, 62,000 bushels of wheat, 62,000 bushels of barley for three years in a r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tham grew powerfu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ecau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e walked before G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57800" y="1599840"/>
            <a:ext cx="365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k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he Prophet Micah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br>
              <a:rPr sz="3600"/>
            </a:b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(The Book of Micah)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hesied in the days o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tham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haz, and Hezeki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emporary of Isai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rophet of the villages, dealt with personal religion and social mor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emned empty worship from those whose lives were morally and spiritually bankru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t, he grieved for his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Judgment Pronounced Upon Israel and Judah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(Micah 1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oud city of Samaria (Israel) will be made as heap in a field  (1: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 idols will be broken in pie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 wound is incurable” (1: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 sold herself to other gods as a harlot for h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Judgment Pronounced Upon Judah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(Micah 2-3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usalem (Judah) war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cked wealthy class, who oppressed the poor, will receive a disaster from G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lse prophets, who were being paid to cry “Peace”, will be condem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ion and Jerusalem will be completely overthrow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emple will be plowed as a fie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Future Exaltation of God’s People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Micah 2:12-13; 4:11-5:15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’s judgment will be fierce, but his anger will not burn fore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ah gave a glorious promise - the return of the faithful remnant from all twelve trib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2:12-1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Future Exaltation of God’s People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Micah 2:12-13; 4:11-5:15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“last day” God’s government will be resto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nations will flow into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w will go forth from Jerusa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ill be a kingdom of pe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me and the halt will be the core of the king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ord will reign over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’s plan will come to fru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01:29:00Z</dcterms:created>
  <dc:creator>Don Vines</dc:creator>
  <dc:description/>
  <dc:language>en-US</dc:language>
  <cp:lastModifiedBy>Frank D Vines</cp:lastModifiedBy>
  <dcterms:modified xsi:type="dcterms:W3CDTF">2006-02-02T00:14:15Z</dcterms:modified>
  <cp:revision>47</cp:revision>
  <dc:subject/>
  <dc:title>The Divided Kingdom, Part 2 “Till There Was No Remedy”</dc:title>
</cp:coreProperties>
</file>